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wmf" ContentType="image/x-wmf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4759-DC28-4242-A23D-BB7E347D7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976D-F0AA-4B79-A937-3173B0D2D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E031-375B-42D3-B6CC-44C053AB3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A1FD-7807-4E47-8252-DCC5F2F5F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1FF2A-8B2B-494E-87A4-7F1CE5580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97F18-FFCC-4CB7-B0E6-2B29A8327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DEE12-F27B-4060-AA34-0F7825E7F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C8E4D-2272-4F61-9251-FC2E2EA11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E7FE2-6A46-44B0-BBA3-629270883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2EFA7-E9AB-44D8-8212-D2BB5596F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730AD-393E-4C8C-B998-BF6F2C23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D2E4-BF9F-45F9-92AB-BC865419A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6E0DC-E70D-4F23-8CEB-03A43BB2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D0C50-38AA-4220-8EB4-17BF76AC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E74D3-4E15-4585-B1CC-F1EFAF2D8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CE3FC-33E4-47D4-8763-82E4F19D9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D72BD-7D02-4A0A-95EA-9AE9831A7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C12BD-2F46-46B4-A964-E50EAC8CD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B6653-2972-4723-9A0A-531B7A54B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E81B1-5127-4A8E-8716-80F5B5B86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12B63-32D2-4F51-822B-09FE77869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00F56-3D39-446C-8BD4-46CC23002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79FA-F1F4-4D97-9C35-52E78C343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97AB2-9083-457E-90BC-E0AE165AB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5688E-5B36-4744-AB5C-157155A0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85E57-4C8F-48FF-A249-475439A2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B22A4-3211-4ED2-9A34-B9867CD2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9CDE3-4FD9-4FAB-A553-5DFBB8E30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335D3-6D7A-44FB-A071-741AC1877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9C64B-8922-464D-A24E-18283831D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BB9D5-7656-4329-BAFA-34A9EF0C8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D09D8-360E-4EB7-9B58-9278DEE0D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D0F81-F314-467A-85D6-5EAA49CC1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159D-E14B-42CF-B0AF-0FEAA2F31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DA757-61F9-4706-8B32-5FE501A56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73077-2129-4966-9834-B797FC745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8A5B8-8137-4A85-A68C-E6FA49B14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787D9-76E2-42DB-81D6-437810A6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CBB71-AE20-4055-873A-78EC6F73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AA892-B777-43F2-A021-AC6C5843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A0454-3848-41F4-9CBA-04134DD34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94F57-A0B8-42BA-895F-673A44BDF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40F94-7E30-415B-8298-2C1641705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977F4-E63E-485C-8F14-6226FAF8A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1AA3-A6FB-4B01-83AF-75F1EBF34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38A58-28FE-41D8-95F4-13EC26E9E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ADBE1-9450-4A5D-B048-3C525D4FD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D0AA1-47EB-4B27-9613-47F171A04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05C2A-7F28-40F5-AF71-ECC0D6799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56D4D-C702-4B8E-B858-E40AAECF4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D3802-9440-4D14-9E5A-7970983E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A2458-100A-4155-AD92-D8ED9EC9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23083-7C8B-4C7E-89C9-180A2FEF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E5F65-A683-4D41-9120-DB0FCE0CA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8F94C-8F3A-40FD-A793-E7D642C60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E793-BEC0-4D3C-B396-E00A07EE3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7273C-877B-4C93-87AC-BEABC43EE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B4D0FB-F87C-4798-A4F6-00720B139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6EE75-78F2-4F5A-A759-47A77D2EE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7559CE-C6BB-4B36-9160-4FA248315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1804E-4F91-411F-8861-B43A0F2D0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DE222-54FB-4A32-8F00-09B69848C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42763-18A0-49E4-B7A5-79BEEE583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24D4C2-2A34-4C7F-907D-9A06D762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6F91F-47BA-41F5-8C45-80DA5434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F240D-96AC-47CC-8BDB-F4B484A9E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14F7-0817-4577-BE9B-64D566A3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217638-C34B-4A7C-9AD3-DAD48D92B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F8B87-A4AF-4AF0-A0F7-70CB621C9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5764E-0537-4A88-A140-3E2362DE3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4E859-81D1-42FC-8528-3CC435D6C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95C2BB-2C95-4FD9-A5E2-950D4BAB7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426B4-AA60-428A-9B1D-A2DDA0CA8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4C6F4-70D1-4CE5-BACB-610828902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2B8A2-728F-49DB-8F18-0DBFE66F6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18B46-661D-42F8-B9A6-1189B437D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FDEB2-B6BC-4873-8AA2-3C1090C14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2AA4-2F00-48B2-ADD4-49C1A217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FA6C5-0D5A-4705-8C60-EB41D7C1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E912D-4432-4FD9-A7F9-47FCA40BF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DCEEC-D718-4823-A30E-99ABCB3D7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C25987-09D0-40B6-827D-ACC029E76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12C1C6-92EA-46F1-8EEB-3B1F61982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B88A-FE03-4F1E-92D3-885A5019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ircular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Elipse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Anillo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Anillo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ángulo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4E476B-23DB-47A8-9545-665EDA6456FA}" type="datetime">
              <a:rPr b="0" lang="es-ES_tradnl" sz="1200" spc="-1" strike="noStrike">
                <a:solidFill>
                  <a:srgbClr val="b5a788"/>
                </a:solidFill>
                <a:latin typeface="Gill Sans MT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AD0134-1F95-49DF-874A-8F423BBC1A20}" type="slidenum">
              <a:rPr b="0" lang="es-ES_trad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ángulo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Circular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Elipse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Anillo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Anillo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ángulo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ángulo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Elipse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Elipse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Elipse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90F044-9E3B-453C-84CC-2CA6FBF8AD76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7338DA-5F9A-4C95-9DD2-553A60E22A6E}" type="slidenum">
              <a:rPr b="0" lang="es-ES_trad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ángulo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ángulo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Elipse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Elipse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Elipse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354768-4721-4572-A4EA-12DC4B79B022}" type="datetime">
              <a:rPr b="0" lang="es-ES_tradnl" sz="1200" spc="-1" strike="noStrike">
                <a:solidFill>
                  <a:srgbClr val="b5a788"/>
                </a:solidFill>
                <a:latin typeface="Gill Sans MT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9DFB06-F8D0-4950-84F5-05D8E2CA89DA}" type="slidenum">
              <a:rPr b="0" lang="es-ES_trad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0550A0-6577-4178-B54C-FCC6C3E3C493}" type="datetime">
              <a:rPr b="0" lang="es-ES_tradnl" sz="1200" spc="-1" strike="noStrike">
                <a:solidFill>
                  <a:srgbClr val="b5a788"/>
                </a:solidFill>
                <a:latin typeface="Gill Sans MT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E66881-86FF-4063-B23B-B9E268911DEE}" type="slidenum">
              <a:rPr b="0" lang="es-ES_trad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ángulo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ángulo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6F32AB-FA8B-4D59-98D9-86C47613A3F1}" type="datetime">
              <a:rPr b="0" lang="es-ES_tradnl" sz="1200" spc="-1" strike="noStrike">
                <a:solidFill>
                  <a:srgbClr val="b5a788"/>
                </a:solidFill>
                <a:latin typeface="Gill Sans MT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24B914-08EE-41E5-93B6-A8067841D489}" type="slidenum">
              <a:rPr b="0" lang="es-ES_trad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0A7EB7-496A-4D33-809F-2FEFDBC18762}" type="datetime">
              <a:rPr b="0" lang="es-ES_tradnl" sz="1200" spc="-1" strike="noStrike">
                <a:solidFill>
                  <a:srgbClr val="b5a788"/>
                </a:solidFill>
                <a:latin typeface="Gill Sans MT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6DDC9B-F68B-4A7B-A165-3D429ABC4762}" type="slidenum">
              <a:rPr b="0" lang="es-ES_trad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ángulo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ángulo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Proceso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roceso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A6372E-3276-4FD3-9CA9-42B0256FF168}" type="datetime">
              <a:rPr b="0" lang="es-ES_tradnl" sz="1200" spc="-1" strike="noStrike">
                <a:solidFill>
                  <a:srgbClr val="b5a788"/>
                </a:solidFill>
                <a:latin typeface="Gill Sans MT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C32997-272D-41C3-9A7B-210659A53889}" type="slidenum">
              <a:rPr b="0" lang="es-ES_trad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203280" y="752040"/>
            <a:ext cx="594036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c000"/>
                </a:solidFill>
                <a:latin typeface="Verdana"/>
              </a:rPr>
              <a:t>LITTERALIA</a:t>
            </a:r>
            <a:endParaRPr b="0" lang="en-US" sz="6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3057480"/>
            <a:ext cx="7407000" cy="22305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200000"/>
              </a:lnSpc>
              <a:spcBef>
                <a:spcPts val="601"/>
              </a:spcBef>
              <a:spcAft>
                <a:spcPts val="36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967d42"/>
                </a:solidFill>
                <a:latin typeface="Verdana"/>
              </a:rPr>
              <a:t>UN PROYECTO DIDÁCTICO DE LITERATURA GRECOLATINA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0" name="Imagen 5" descr="Y.jpg"/>
          <p:cNvPicPr/>
          <p:nvPr/>
        </p:nvPicPr>
        <p:blipFill>
          <a:blip r:embed="rId1"/>
          <a:stretch/>
        </p:blipFill>
        <p:spPr>
          <a:xfrm>
            <a:off x="1197000" y="360360"/>
            <a:ext cx="200664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131760"/>
            <a:ext cx="749952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967d42"/>
                </a:solidFill>
                <a:latin typeface="Verdana"/>
              </a:rPr>
              <a:t>INTRODUCCIÓN</a:t>
            </a:r>
            <a:endParaRPr b="0" lang="en-US" sz="5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269720" y="1171440"/>
            <a:ext cx="7980120" cy="28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67d42"/>
                </a:solidFill>
                <a:latin typeface="Verdana"/>
              </a:rPr>
              <a:t>Proyecto de comunicación dinámica con mis alumnos de Latín y Griego de 2º de Bachillerato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67d42"/>
                </a:solidFill>
                <a:latin typeface="Verdana"/>
              </a:rPr>
              <a:t>Intención de llegar hasta donde ha sido difícil llegar hasta ahor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3" name="Imagen 4" descr=""/>
          <p:cNvPicPr/>
          <p:nvPr/>
        </p:nvPicPr>
        <p:blipFill>
          <a:blip r:embed="rId1"/>
          <a:stretch/>
        </p:blipFill>
        <p:spPr>
          <a:xfrm>
            <a:off x="3632040" y="3881520"/>
            <a:ext cx="301968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967d42"/>
                </a:solidFill>
                <a:latin typeface="Verdana"/>
              </a:rPr>
              <a:t>OBJETIVOS</a:t>
            </a:r>
            <a:endParaRPr b="0" lang="en-US" sz="5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996480" y="1523880"/>
            <a:ext cx="409572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967d42"/>
                </a:solidFill>
                <a:latin typeface="Gill Sans MT"/>
              </a:rPr>
              <a:t>acercar a los alumnos los textos originales y/o traducidos para paliar su déficit de lectura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967d42"/>
                </a:solidFill>
                <a:latin typeface="Gill Sans MT"/>
              </a:rPr>
              <a:t>hacerles comprender con este acercamiento el genuino significado de los mismos,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967d42"/>
                </a:solidFill>
                <a:latin typeface="Gill Sans MT"/>
              </a:rPr>
              <a:t>mejorar la lectura comprensora de los textos con datos del  contexto histórico-literario a través de enlaces y herramientas de la Web 2.0, como vídeos, presentaciones, imágenes, etc.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76880" y="1965240"/>
            <a:ext cx="3657600" cy="31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27" name="ShockwaveFlash2"/>
          <p:cNvGraphicFramePr/>
          <p:nvPr/>
        </p:nvGraphicFramePr>
        <p:xfrm>
          <a:off x="5295960" y="2006640"/>
          <a:ext cx="3575160" cy="36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ShockwaveFlash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5960" y="2006640"/>
                    <a:ext cx="3575160" cy="36036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967d42"/>
                </a:solidFill>
                <a:latin typeface="Verdana"/>
              </a:rPr>
              <a:t>HERRAMIENTA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0" name="Picture 2" descr=""/>
          <p:cNvPicPr/>
          <p:nvPr/>
        </p:nvPicPr>
        <p:blipFill>
          <a:blip r:embed="rId1"/>
          <a:stretch/>
        </p:blipFill>
        <p:spPr>
          <a:xfrm>
            <a:off x="1152360" y="1417680"/>
            <a:ext cx="4124520" cy="33084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3" descr=""/>
          <p:cNvPicPr/>
          <p:nvPr/>
        </p:nvPicPr>
        <p:blipFill>
          <a:blip r:embed="rId2"/>
          <a:stretch/>
        </p:blipFill>
        <p:spPr>
          <a:xfrm>
            <a:off x="5276880" y="2797200"/>
            <a:ext cx="3867120" cy="35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152280"/>
            <a:ext cx="7499520" cy="14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967d42"/>
                </a:solidFill>
                <a:latin typeface="Verdana"/>
              </a:rPr>
              <a:t>¿PARA QUÉ SIRVEN?</a:t>
            </a:r>
            <a:br>
              <a:rPr sz="3600"/>
            </a:br>
            <a:r>
              <a:rPr b="0" lang="es-ES" sz="3600" spc="-1" strike="noStrike">
                <a:solidFill>
                  <a:srgbClr val="967d42"/>
                </a:solidFill>
                <a:latin typeface="Verdana"/>
              </a:rPr>
              <a:t>¿POR QUÉ LAS UTILIZO?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295280" y="1552680"/>
            <a:ext cx="7639200" cy="519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967d42"/>
                </a:solidFill>
                <a:latin typeface="Verdana"/>
              </a:rPr>
              <a:t>Son el modelo más adecuado para estructuras cooperativas, como el trabajo en grupo y la aportación de contenidos por parte del alumno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967d42"/>
                </a:solidFill>
                <a:latin typeface="Verdana"/>
              </a:rPr>
              <a:t>Se adaptan muy bien a la situación actual donde los profesores continuamos con procesos basados en docencia (contenidos aportados por nosotros) y procesos basados en la cooperación (trabajos en grupo, exposiciones, aportaciones de los alumnos, trabajos dirigidos, etc)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967d42"/>
                </a:solidFill>
                <a:latin typeface="Verdana"/>
              </a:rPr>
              <a:t>Proporcionan gran ayuda para gestionar el conocimiento, sobre todo si se aplican  con las llamadas </a:t>
            </a:r>
            <a:r>
              <a:rPr b="1" lang="es-HN" sz="1800" spc="-1" strike="noStrike">
                <a:solidFill>
                  <a:srgbClr val="967d42"/>
                </a:solidFill>
                <a:latin typeface="Verdana"/>
              </a:rPr>
              <a:t>espirales del conocimiento</a:t>
            </a:r>
            <a:r>
              <a:rPr b="0" lang="es-HN" sz="1800" spc="-1" strike="noStrike">
                <a:solidFill>
                  <a:srgbClr val="967d42"/>
                </a:solidFill>
                <a:latin typeface="Verdana"/>
              </a:rPr>
              <a:t>, es decir, que si los alumnos se basan en un trabajo anterior, (todos los años explicamos el mismo temario) es evidente que el resultado del nuevo trabajo mejora al anterior; resumiendo, que si los trabajos que van realizando mis alumnos los organizo, se publican en algún sitio web –un wiki, por ejemplo- y se los entrego a los nuevos alumnos del curso siguiente, irán subiendo de nivel cada vez que se base en uno anterior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151920"/>
            <a:ext cx="7499520" cy="113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967d42"/>
                </a:solidFill>
                <a:latin typeface="Verdana"/>
              </a:rPr>
              <a:t>UNA IMAGEN VALE MÁS QUE MIL PALABRAS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5" name="Picture 2" descr=""/>
          <p:cNvPicPr/>
          <p:nvPr/>
        </p:nvPicPr>
        <p:blipFill>
          <a:blip r:embed="rId1"/>
          <a:stretch/>
        </p:blipFill>
        <p:spPr>
          <a:xfrm>
            <a:off x="2505240" y="1417680"/>
            <a:ext cx="508608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20:30:43Z</dcterms:created>
  <dc:creator>CARMEN ROBRES</dc:creator>
  <dc:description/>
  <dc:language>en-US</dc:language>
  <cp:lastModifiedBy>CARMEN ROBRES</cp:lastModifiedBy>
  <dcterms:modified xsi:type="dcterms:W3CDTF">2010-12-12T21:23:37Z</dcterms:modified>
  <cp:revision>23</cp:revision>
  <dc:subject/>
  <dc:title>  LITTERALIA</dc:title>
</cp:coreProperties>
</file>